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2940840" y="9131400"/>
            <a:ext cx="1422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lliard"/>
              </a:rPr>
              <a:t>Page </a:t>
            </a:r>
            <a:fld id="{76594CBF-ABD3-45C1-A302-79B303A8C91F}" type="slidenum">
              <a:rPr b="0" lang="en-US" sz="1300" spc="-1" strike="noStrike">
                <a:solidFill>
                  <a:srgbClr val="000000"/>
                </a:solidFill>
                <a:latin typeface="Galliard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Blackman harris has good interference rejection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Other windows better in band shape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Limit of 6 x fft due to on chip memory limit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olumns now and future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Real time means processed slightly faster than the sample rate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8 field programmable gate array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and b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do station based processing and channelisation. Bns receive ¼ of the bandwidth. Coloured line represent chunks of frequency bi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Signal tap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More unbs -&gt; more bw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0F03-8999-4474-8267-7ADEF09C0C5F}" type="slidenum">
              <a:rPr b="0" lang="en-US" sz="3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784470-F1DE-4A03-A224-B54AF84F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2AB9F3-0127-466B-ACF9-8BC0386E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E70B34-AAE7-4CCD-89D4-100B8F79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B569DD-B955-4827-BF46-2F8FA953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D3342-7A59-402A-B977-087633AC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A51BC-DC14-467B-88C2-542B5F12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B78795-1BA2-4FE6-BB9B-7FA8A70A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4293C1-FDDF-4B2A-9E67-1A4E511C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A87C53-D55F-4145-83A9-3264F455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A6D95-6D94-4052-A81E-D8D9D4EC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11D13-9402-4DF5-BECB-0B45A597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47760-7277-45CD-AF5D-CEEE9E7F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C9A8E-57C3-4F0C-A0A9-6BDA316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79BEC-8C20-4944-9E66-B794A20E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B174C-6718-465A-B23D-580B2EFE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75C2D-121A-4E7A-A4B5-218F6E81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C2F70-8479-4340-AC8E-16EC186A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EB44C-0957-472A-9A11-38118A64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1BD41-426D-491C-A899-1952CCC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53809-2654-44F7-8B14-E005FB6F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998D7-F2BD-4055-A4FA-35C72A86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A6733-C146-482F-8CBA-05BF039A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69F40-4AB2-4479-A821-98983F6B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53B1C-3E26-43ED-BA55-659DEE61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A5725-150E-4ADB-B665-CF53D15D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1182B-A427-403A-8A35-7973B683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4A8B7-35A3-47A9-9E24-E6FEC038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27406-BC09-41BB-A207-E6B203D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A3FD8-B7C1-4E0A-93F4-11D3A7D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8B001-046D-4ACD-885E-5C4AC26C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A8BE7-2444-4115-8650-2344F8C1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25532-76F5-4142-9B28-46F9BD18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FB672-798C-46FA-8FF3-D33AB331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1C0BA-3293-4CCE-8CF2-0CAF0A25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CEF67C-4075-4AE5-BC91-F694636D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AF81CD-BF80-4DF8-ABFB-0FC43615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AF304F-5BFB-4F6B-8598-AE0EF51F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DBEBA5-08C3-4B47-AF2C-8451F0B0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FF1D73-20EA-4ABA-A3F1-B402703F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16D057-8928-4C64-B0B6-10E879CB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065A93-5F03-4154-9EDD-E0D85A5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D61D9-BC53-465F-8F36-AC6C1432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16BDE5-24A9-4671-BEC4-55C534C6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51DC70-252D-476D-B77B-B476437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D8BD20-DA89-4B15-AC96-7FCF21BE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EDCA67-1E04-48B0-98E1-F6231EC1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D17C8C-85F1-40C8-8271-745EA3BC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7879C-A5B5-47A8-9CFB-AFE58757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ACC1C-7444-4401-B8DC-4E6405A7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FB744-F72F-40A2-BE9B-3D23362C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3CFB0-DD94-4D93-AEB0-0D5DA1F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D3942-0724-435C-B042-97FAB1E5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7DBC9-392B-4F88-9E57-D22035C9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B9266-4CF4-4915-9D1C-EAFE0679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BE33D-9423-461E-8E8F-7E740B55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698FF-73A4-4AC4-8276-F501EC3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926E8-3ABD-4E48-AC8E-B5C107D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72659-57C7-4465-96BE-F016405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5D1E6-BE1A-4DE0-A325-8C3B1F05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78ED8-95D1-45C3-8F21-A6B1AEE6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C10DC1-4710-4DDF-A39F-04F03149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F76001-DC82-4992-91E8-4FA443EA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8F8261-5FCE-4936-BD73-ACE97A53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F33BE-A179-4111-956A-15EC6083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2FE641-0C61-439D-8C9A-2609F808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9868A3-CA0A-431B-B03F-25F385E0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8BBC97-8091-4874-99A5-FB302CE5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F823C5-CD59-40F9-B3D9-2DD3DB3B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AC51A8-CEC0-40FE-8DFC-9E60A77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4A2CA8-E1A1-4B20-BFA7-E1E6CA0E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9FE075-4425-45C3-B05B-03A63B1F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01FFEE-60E6-4959-97EE-859D2C77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877E85-40F7-468A-85FC-0760E3A0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5AFB3A-14C2-4ECE-A31C-E7D0F682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B020A-1822-4AF6-8A85-6D5F1130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FB67DE-C013-4A06-9384-4ED9C377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F86FDA-03E2-4070-9E2C-919C89EC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CDAC51-F19F-45CB-BF75-C4C0F7C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B28589-167C-493C-A619-C9276081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87DCD6-3382-4F5B-BE70-B1D40B0F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832587-D14E-4C8C-A8E4-97BC4C83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77481A-2C33-4B2E-9363-EB10A02A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8E6B46-3AF6-4FC1-93A5-644FCCF9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7BFFD5-D451-4F69-840C-725547E8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7D6E18-56D3-4128-9322-A1A9EB07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B47E3-EE84-4251-BB33-85D88145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11B876-108A-4F85-8A8E-B93DC7C5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D3DD01-A667-4EDD-91EC-ACAAD622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70A2BE-4670-4869-8CBB-6600658D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E601B6-40AD-48C1-837E-D3E9DEC5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C6ACBE-CBD3-4AAF-A3C6-21FD4E94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9C0742-F8EA-4883-934A-BB2BF379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04E0B2-3888-4F51-9958-953FB2D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BC7BB2-C19A-49D1-97C5-89EA7536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24CB6D-F544-4D66-A64E-641ACA0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106A71-2206-4A23-A672-6D3D698A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9E12D-9493-4523-AC70-4B75938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0C54D6-5FBD-44D4-9FC6-2F12B52B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9FCB5A-7705-4E57-B87E-6A659B16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AE6AF2-1FC8-43C1-B5F3-139399CF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62C5E0-0CC4-4638-A44A-215937F0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E24F70-D3B3-49C1-A9DD-F6606F69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AC11AA-EFEB-44CF-932D-13D32DC9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FDB146-D430-476E-B12C-498D62E7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D89265-119F-4ABD-B7DC-7B4F7000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3B28ED-0D54-427F-AB93-94B3A7D4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8DBA5F-6749-4C20-8A60-EDD61C8D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60078-78AE-4B6F-A647-288CABF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079CAC-DDFE-45FB-B7F9-4203CEA4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C56FFA-1095-4053-B6EF-EEE38E59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333AE1-57FA-4735-A625-5446D32C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8259B5-867C-436E-A7C2-B5641C08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E121AF-6FEF-4F61-8A63-47DEC052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B14562-9F57-4FA0-9C40-A9D52475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10707B-C7F7-45CB-BA99-72D91020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32165F-BD3B-4A7A-97EA-2AA4B5E4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1C049F-F08D-41BA-AC7B-3384754A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7517B2-13BA-4A79-8289-42C7DA2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DCCA0-1CA5-4E58-B9D9-08040E7D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97E5A9-0FF4-46DD-AC46-638EF8DE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B793D2-2BFE-4189-9A34-1031361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3001F6-B76F-474F-BA11-0CABBC0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7DF5CE-2850-41B7-A2E9-C6D3158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63D2B0B-5CF8-41EE-87C9-0B97FF39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30C8B3E-3D63-473F-A1D9-5DE0E026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AD4DC4-C9E3-47DA-80EC-6C5AE874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DA1EC1-3BBB-4CAE-A491-3B9AFDB4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B6BBF3-E58F-47E3-9DF3-009D4BBE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45B53C-8B65-4627-9B87-7DE916A6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39D4F-49D8-4927-809E-E1604B6A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D8FB7E-C2AD-4910-B11E-BCCA66CC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18D492-2AD9-483A-B5AA-C0ADC31E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F308A6-B96F-4E86-B683-3CFF52D6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3CD377-71FD-453C-91CF-609A5F05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4BBA33-5183-492A-8D76-79D421A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A4B10C4-2E5A-4268-99C5-08F0134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013A65-F2B9-4B48-A19C-3548B728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232921-05CC-4B5D-A03E-D1650708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84F37D-239E-40D3-BB81-7DD45601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7A5F43-E12D-468A-923A-EBEC3A0C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7D3EE-CD87-418D-8974-EAA9CD59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2D7E7E-57BF-4397-B227-DCCF808D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43FC0F-D0B3-4AB5-8EF2-4B998879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F1DCA1A-ACAB-4B64-AC1F-2E1D3975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B35D34-C552-4AE7-BA4D-A49BF90C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85CA123-C134-447D-BDF3-45D3DD82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8BAF266-E0FE-40C8-BBD4-963F48F6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813C0E5-714B-400A-9741-FB713A0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059F80-7446-400F-B693-7BBEE6BC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4024959-0DB7-4E0B-A289-0659889D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C7D4577-F5A2-4439-AEF6-EE906577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BCD15-73A2-4D94-9F24-F532D7BB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234145-1BE8-4EF0-9EEA-1DEF123B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F90EEF-3F8F-46BC-BB17-6F035EEF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4FAF2AC-50A0-4180-BCB7-5B25503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8B2864-1948-4016-A828-642238D3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094C30C-26D8-46D7-99ED-27023FEB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C61BE1-DB04-4275-A621-D86E8255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51FD4EA-3A2A-4A8A-93E7-E6087486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4D5CDD-C1BB-4348-BC0E-AE34BD5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79C4C3-2203-4BDD-BD75-1A1DBC6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C65F97-CA08-4D43-AC44-462258FB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F3F82-9D46-482B-876B-C7EA0A34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A8803E-55B3-443A-9CE5-480ED468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B07BE3-993A-4D20-ACD0-394554F6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990D60-89F0-4A46-9BA6-C0342A22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1A81A65-E08C-4E7B-866D-CC8FFDB7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72C30F-50B8-4DB3-BE31-05753F96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0CFDF8A-7A74-4BFE-AC6E-EF59F39F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7A86E17-D595-4E47-AEFA-B93576C1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5D252B1-6D09-4D24-8B1F-A97737D5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4F4BBB-9765-437C-A9A4-B60A2A35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1B05F66-096A-4AD3-BBA0-D162572A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0D0C4-40E2-414C-B6EC-707EEE19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CA088AC-09DF-4F45-B83B-182B368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1280C98-A1CD-45DE-BA88-0DF4DD3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42491D-F6FF-4765-99FD-9AA747FD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6B4B15-5D31-4A07-B288-C3D723C9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472AA9F-333A-4395-AF18-49777706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E7BEB7F-ADF6-4331-A0FA-A47D2961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52A323E-4F6D-4423-B1B1-BB34061E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267CD66-4BB7-4AFD-9FF7-D11AFE82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EA5436-31AD-4A14-A88D-3A8BBE39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C05FFF3-C80A-492D-AFEF-215879FD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92CE41-80C4-4F93-9401-6F0DAF6F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8395FD-A999-4E63-ABAE-1E73271D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E86B8F-CF0E-4D44-BC60-9CD92E2A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5571AE1-12D5-4A34-A6C9-1C57E33C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28B405F-2D58-4C1E-A026-88CF8BD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D86CA9-B4C2-47C4-86C4-B9C15375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236838-F0FF-43F3-AAEA-819CB973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F549345-17F3-4859-BAB7-A5412BB5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1BED61-3A29-4E79-8F4D-45B3F432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4D999DD-8508-4060-BCA5-FFD6DBA2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ABB15C9-9F19-4DE6-B3F8-39B3198B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667B5-19D7-4E86-BF96-C9784985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97DA984-EB97-48F1-B9F9-3D30D1D2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D7BF59-D156-448D-9B77-69C685E4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4671C1C-5C5B-4A30-BD4F-A8E6BB71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E90AA8E-9EDA-47A8-A0CD-12619641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F6D8865-8D1C-4899-8ECE-853354E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9776BE5-0585-49E0-8042-9ED8B0FB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A565A49-8899-4E90-A622-E3B58361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D1FDF15-C29C-43E3-A847-046E4739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9347509-F365-4214-BFCA-4BED2E4C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410763F-B6C5-436A-9FDC-2CD6838E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BDDA2-68C6-4894-9A39-C8AB65DE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FC19629-E928-4E17-8450-EC230D1D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165B597-A50C-49CE-B51E-74A6E859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F4B0139-BC18-4868-878D-799C4BE4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9168C94-AD10-44AB-9A3D-4192B0F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B6403C-95AF-4670-98F4-7788F783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BE5D34-EBB5-4D9D-9E83-9798F90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58B36C4-C81D-4C9A-91D5-58A22257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91F744-683F-4CAA-9874-66912B9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A8F17FC-E911-4091-AD2D-CE11DA49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19B373F-7E73-4238-9B46-FF122185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4057F-5956-46F6-A008-F264A97A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BDACCD7-8055-42BA-9E93-255AE57C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8ADDA14-DA9D-4973-89AC-85B425C0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0577A0-91A8-43D8-A0B0-C789CF7A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4ADE81-2106-4701-931E-17177816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B12EFEE-851A-4E1B-9FAE-A11F050B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19C2B9E-EA74-4CE4-B5BF-86B8D079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CCBD4F3-2873-4C5E-AB2B-7875BE6A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F6E4540-B58F-4B96-9965-938605A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6AD2B1-ADE3-4B39-9575-AFDDD5B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FA9B4B1-A99B-4602-BCF5-828192B7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2FC42-B9F1-41E9-B740-4FF4175D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D364EA3-C44A-4C8D-8880-5B540BB7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DE5CEBE-6EEF-4A8B-8B0D-12A16E79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C65FCB-8E46-4EB3-AF3D-80CF0B73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85146-4878-41BB-8FCC-6327C1F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8BAD3-5D72-4398-A240-3C57AEA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35085-C8B1-44AE-BD08-067DF55C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65C3D-C0B9-4485-A206-F02F6813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E50D6-8426-41DE-BF1B-EF7A1145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3CF89-A7F0-44FF-B831-E472393E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7C501-6BF9-4389-99AA-8308C0C1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B45DE-C294-4360-BF8E-4FE363C3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161E9-A28B-460B-8C3A-702AC441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EA3DA-E88C-4CE1-8688-ED5F12D4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F44F19-C9FB-441D-BB18-FC9FDCF4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4AA50-BEC4-46E3-B580-321E55EF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09991-F215-49C5-A4B4-6C544A1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5FAF0-1A67-43EE-BB28-52916516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4CCD2-73FB-4378-A991-B45E2E1D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ACA36-EF77-450E-9975-D219CE47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28438-3D78-45A4-9BE9-9A48E1A2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B252AA-82A5-4AAB-A49F-08660029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00CECC-A44C-4E48-B252-DB7ADAB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542B09-0CDD-49C9-93CA-049889E9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45FDE-ED37-4C84-9881-90A18516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D477E-7174-4CB6-9230-B6DE824B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78E13-2CFC-4CCE-AF9F-5588521A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A210D4-EBD8-4382-B745-EE91892E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E88128-B26A-48FA-B597-50E2B2F9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9B71B-A63D-4A60-9952-7F246377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8CCF68-1CD5-4C53-8096-FC114D92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0EF987-F53A-4117-B414-1E31D6D7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730264-E00A-4A43-A9FE-A830AD38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72AE1F-5306-4135-8E72-0C4DCB82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395750-4874-4445-8964-239DA693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0A24AD-D4C8-4826-B9D8-45113134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5EFA65-D985-428F-B5AC-8F0990A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F8D1E8-D9C8-4F11-BDD5-61F57048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970A0A-FC29-4030-A65F-11AA7816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B3A480-1890-4B9C-B382-E9A90A91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5F3715-F80B-478C-91C7-5F5F9B0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B494B4-D9AF-47C9-B7AB-774041F3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EBB685-A98E-46BF-ABBB-763DDCD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D88E84-266B-4902-B1D7-98D8EB91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F1C464-7320-4FEE-9FF6-B3DBF735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5E812C-8EDB-44A9-BA4E-D39F2E2F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5C1789-9A1E-43F9-B40C-7F1E2DA9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974AD6-0BD6-46B1-AA98-5B68D85C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AAFCC8-30D8-4953-BA2D-C3B7C03A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6A2B08-8394-4EAB-ABAA-0F4C0335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17C199-7C47-483A-A769-9FB1E877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66DC1-A88E-41FB-A2DA-C6C3F995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B04DD-A8F7-40DF-88AC-1A22DF4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0F7FA9-3AAD-4875-9C9E-1537B23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8BB95-54FD-4892-ADBE-2F9BBCC6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144E7C-432B-429A-B6B7-9CD06254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560FC1-29A6-478E-9F24-9F70AAE5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FC9E42-C4AD-4551-B847-105E1100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270F30-F714-466A-BCDA-8A6F297B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40CEAA-755E-4B82-BD3F-1C60D3B3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4" name="Picture 21" descr="jive02"/>
          <p:cNvPicPr/>
          <p:nvPr/>
        </p:nvPicPr>
        <p:blipFill>
          <a:blip r:embed="rId2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335040" y="63813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" name="Picture 23" descr="RadioNet_Logo_1000"/>
          <p:cNvPicPr/>
          <p:nvPr/>
        </p:nvPicPr>
        <p:blipFill>
          <a:blip r:embed="rId3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7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" name="Picture 21" descr="jive02"/>
          <p:cNvPicPr/>
          <p:nvPr/>
        </p:nvPicPr>
        <p:blipFill>
          <a:blip r:embed="rId4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3" descr="RadioNet_Logo_1000"/>
          <p:cNvPicPr/>
          <p:nvPr/>
        </p:nvPicPr>
        <p:blipFill>
          <a:blip r:embed="rId5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0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" name="Picture 21" descr="jive02"/>
          <p:cNvPicPr/>
          <p:nvPr/>
        </p:nvPicPr>
        <p:blipFill>
          <a:blip r:embed="rId6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3" descr="RadioNet_Logo_1000"/>
          <p:cNvPicPr/>
          <p:nvPr/>
        </p:nvPicPr>
        <p:blipFill>
          <a:blip r:embed="rId7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4EA0-350D-4659-BFF3-140BD1EB6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C68F-B681-4931-91DF-479296480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9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0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1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84EF-0A32-485C-9EC4-7B43A9947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1C27-1948-4E62-B266-37E49C2FC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84C7-1F7B-4742-BAF0-E2F63D2A4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B99C-B8F8-411B-AFE8-C98F7BF35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63E4-9303-4672-8918-AD79DB8DF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4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5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6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7C9C-6C20-4354-A45E-0DACCF527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4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4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4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4CEF-CB2E-478E-8431-BBBDDDBE0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1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2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4E1-7228-461D-95A4-02819D15E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2F79B-88FE-432D-AE5B-3BA45F5F4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6550-1CD5-43D4-93C4-FF996D3E2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5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386-6EAE-4F1A-B03E-0F21AB987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59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60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61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0CB3-775D-4159-B11F-6A57A0AC6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5DE7-3923-40C6-9133-AE3C2ED50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6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6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6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B58A-AAE6-49EA-A8BC-9FCC123B5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7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AAD-641C-4995-87B9-533C59E14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104-5BC8-4C86-9BA9-50A3CE134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1FB24-6232-4170-8CBD-9A55F37FA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4" name="Picture 21" descr="jive02"/>
          <p:cNvPicPr/>
          <p:nvPr/>
        </p:nvPicPr>
        <p:blipFill>
          <a:blip r:embed="rId2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RadioNet_Logo_1000"/>
          <p:cNvPicPr/>
          <p:nvPr/>
        </p:nvPicPr>
        <p:blipFill>
          <a:blip r:embed="rId3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6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7" name="Picture 21" descr="jive02"/>
          <p:cNvPicPr/>
          <p:nvPr/>
        </p:nvPicPr>
        <p:blipFill>
          <a:blip r:embed="rId4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adioNet_Logo_1000"/>
          <p:cNvPicPr/>
          <p:nvPr/>
        </p:nvPicPr>
        <p:blipFill>
          <a:blip r:embed="rId5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9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0" name="Picture 21" descr="jive02"/>
          <p:cNvPicPr/>
          <p:nvPr/>
        </p:nvPicPr>
        <p:blipFill>
          <a:blip r:embed="rId6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RadioNet_Logo_1000"/>
          <p:cNvPicPr/>
          <p:nvPr/>
        </p:nvPicPr>
        <p:blipFill>
          <a:blip r:embed="rId7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42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01C4-86AB-469B-9818-F91716BDC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593-DFA2-4FF8-96AD-06E448FFD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4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5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6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1277-42C2-4A4B-A052-9E10A5693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E928-094C-4997-9A94-8F6220BB5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1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2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1CC-B505-419A-9E98-D571928E9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3"/>
          <p:cNvSpPr/>
          <p:nvPr/>
        </p:nvSpPr>
        <p:spPr>
          <a:xfrm>
            <a:off x="330120" y="5743440"/>
            <a:ext cx="48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nathan Hargreaves, JIV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8" name="Rectangle 4"/>
          <p:cNvSpPr/>
          <p:nvPr/>
        </p:nvSpPr>
        <p:spPr>
          <a:xfrm>
            <a:off x="1401840" y="270000"/>
            <a:ext cx="1839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9" name="Text Box 6"/>
          <p:cNvSpPr/>
          <p:nvPr/>
        </p:nvSpPr>
        <p:spPr>
          <a:xfrm>
            <a:off x="1881360" y="1515960"/>
            <a:ext cx="61164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JIVE UniBoard Correlator External Review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September 2014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2992320" y="2965320"/>
            <a:ext cx="185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91" name="Picture 14" descr="FP7-gen-RGB"/>
          <p:cNvPicPr/>
          <p:nvPr/>
        </p:nvPicPr>
        <p:blipFill>
          <a:blip r:embed="rId1"/>
          <a:stretch/>
        </p:blipFill>
        <p:spPr>
          <a:xfrm>
            <a:off x="8282160" y="0"/>
            <a:ext cx="1620720" cy="1317600"/>
          </a:xfrm>
          <a:prstGeom prst="rect">
            <a:avLst/>
          </a:prstGeom>
          <a:ln w="0">
            <a:noFill/>
          </a:ln>
        </p:spPr>
      </p:pic>
      <p:sp>
        <p:nvSpPr>
          <p:cNvPr id="1092" name="Footer Placeholder 1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PFB Architectur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91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92" name="Content Placeholder 4" descr="poly1.png"/>
          <p:cNvPicPr/>
          <p:nvPr/>
        </p:nvPicPr>
        <p:blipFill>
          <a:blip r:embed="rId1"/>
          <a:srcRect l="0" t="-18117" r="0" b="-18117"/>
          <a:stretch/>
        </p:blipFill>
        <p:spPr>
          <a:xfrm>
            <a:off x="658800" y="888840"/>
            <a:ext cx="8548560" cy="41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PFB Window Fun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94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95" name="Content Placeholder 2" descr="fft_output_2k_6taps_raw_vs_kaiser0p5_vs_blackman_harris_zoomed.jpg"/>
          <p:cNvPicPr/>
          <p:nvPr/>
        </p:nvPicPr>
        <p:blipFill>
          <a:blip r:embed="rId1"/>
          <a:srcRect l="-15931" t="0" r="-15931" b="0"/>
          <a:stretch/>
        </p:blipFill>
        <p:spPr>
          <a:xfrm>
            <a:off x="430200" y="876240"/>
            <a:ext cx="8937720" cy="53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elay Model Evalua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97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198" name="Group 85"/>
          <p:cNvGrpSpPr/>
          <p:nvPr/>
        </p:nvGrpSpPr>
        <p:grpSpPr>
          <a:xfrm>
            <a:off x="1612800" y="990720"/>
            <a:ext cx="6566040" cy="2984400"/>
            <a:chOff x="1612800" y="990720"/>
            <a:chExt cx="6566040" cy="2984400"/>
          </a:xfrm>
        </p:grpSpPr>
        <p:sp>
          <p:nvSpPr>
            <p:cNvPr id="1199" name="Rectangle 86"/>
            <p:cNvSpPr/>
            <p:nvPr/>
          </p:nvSpPr>
          <p:spPr>
            <a:xfrm>
              <a:off x="5980320" y="1079280"/>
              <a:ext cx="231480" cy="22161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0" name="Text Box 832"/>
            <p:cNvSpPr/>
            <p:nvPr/>
          </p:nvSpPr>
          <p:spPr>
            <a:xfrm>
              <a:off x="3560760" y="1222200"/>
              <a:ext cx="595080" cy="94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</a:t>
              </a:r>
              <a:r>
                <a:rPr b="0" lang="en-US" sz="1000" spc="-1" strike="noStrike" baseline="-25000">
                  <a:solidFill>
                    <a:srgbClr val="0033cc"/>
                  </a:solidFill>
                  <a:latin typeface="Times New Roman"/>
                  <a:ea typeface="Arial"/>
                </a:rPr>
                <a:t>0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Fifo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 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1" name="Text Box 833"/>
            <p:cNvSpPr/>
            <p:nvPr/>
          </p:nvSpPr>
          <p:spPr>
            <a:xfrm>
              <a:off x="5991120" y="1590840"/>
              <a:ext cx="199800" cy="995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</a:t>
              </a:r>
              <a:r>
                <a:rPr b="0" lang="en-US" sz="1000" spc="-1" strike="noStrike" baseline="-25000">
                  <a:solidFill>
                    <a:srgbClr val="0033cc"/>
                  </a:solidFill>
                  <a:latin typeface="Times New Roman"/>
                  <a:ea typeface="Arial"/>
                </a:rPr>
                <a:t>0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2" name="Text Box 834"/>
            <p:cNvSpPr/>
            <p:nvPr/>
          </p:nvSpPr>
          <p:spPr>
            <a:xfrm>
              <a:off x="4781520" y="2300400"/>
              <a:ext cx="201600" cy="985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</a:t>
              </a:r>
              <a:r>
                <a:rPr b="0" lang="en-US" sz="1000" spc="-1" strike="noStrike" baseline="-25000">
                  <a:solidFill>
                    <a:srgbClr val="0033cc"/>
                  </a:solidFill>
                  <a:latin typeface="Times New Roman"/>
                  <a:ea typeface="Arial"/>
                </a:rPr>
                <a:t>1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3" name="Oval 90"/>
            <p:cNvSpPr/>
            <p:nvPr/>
          </p:nvSpPr>
          <p:spPr>
            <a:xfrm>
              <a:off x="5292720" y="2605320"/>
              <a:ext cx="349200" cy="4460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4" name="Line 843"/>
            <p:cNvSpPr/>
            <p:nvPr/>
          </p:nvSpPr>
          <p:spPr>
            <a:xfrm flipV="1">
              <a:off x="2145960" y="2206440"/>
              <a:ext cx="587160" cy="126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5" name="Line 844"/>
            <p:cNvSpPr/>
            <p:nvPr/>
          </p:nvSpPr>
          <p:spPr>
            <a:xfrm>
              <a:off x="4981680" y="2816280"/>
              <a:ext cx="311040" cy="9360"/>
            </a:xfrm>
            <a:prstGeom prst="line">
              <a:avLst/>
            </a:prstGeom>
            <a:ln w="18360">
              <a:solidFill>
                <a:srgbClr val="f7964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6" name="Line 847"/>
            <p:cNvSpPr/>
            <p:nvPr/>
          </p:nvSpPr>
          <p:spPr>
            <a:xfrm flipV="1">
              <a:off x="4170240" y="2723760"/>
              <a:ext cx="610920" cy="4680"/>
            </a:xfrm>
            <a:prstGeom prst="line">
              <a:avLst/>
            </a:prstGeom>
            <a:ln w="18360">
              <a:solidFill>
                <a:srgbClr val="56ff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7" name="Line 849"/>
            <p:cNvSpPr/>
            <p:nvPr/>
          </p:nvSpPr>
          <p:spPr>
            <a:xfrm flipV="1">
              <a:off x="4184640" y="1682640"/>
              <a:ext cx="1774800" cy="9360"/>
            </a:xfrm>
            <a:prstGeom prst="line">
              <a:avLst/>
            </a:prstGeom>
            <a:ln w="18360">
              <a:solidFill>
                <a:srgbClr val="56ff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8" name="Line 853"/>
            <p:cNvSpPr/>
            <p:nvPr/>
          </p:nvSpPr>
          <p:spPr>
            <a:xfrm flipV="1">
              <a:off x="5483160" y="3060360"/>
              <a:ext cx="0" cy="399960"/>
            </a:xfrm>
            <a:prstGeom prst="line">
              <a:avLst/>
            </a:prstGeom>
            <a:ln w="18360">
              <a:solidFill>
                <a:srgbClr val="009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9" name="Line 859"/>
            <p:cNvSpPr/>
            <p:nvPr/>
          </p:nvSpPr>
          <p:spPr>
            <a:xfrm>
              <a:off x="7196400" y="1546200"/>
              <a:ext cx="9824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0" name="Line 860"/>
            <p:cNvSpPr/>
            <p:nvPr/>
          </p:nvSpPr>
          <p:spPr>
            <a:xfrm>
              <a:off x="6218280" y="2130480"/>
              <a:ext cx="331560" cy="0"/>
            </a:xfrm>
            <a:prstGeom prst="line">
              <a:avLst/>
            </a:prstGeom>
            <a:ln w="18360">
              <a:solidFill>
                <a:srgbClr val="009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1" name="Line 861"/>
            <p:cNvSpPr/>
            <p:nvPr/>
          </p:nvSpPr>
          <p:spPr>
            <a:xfrm>
              <a:off x="5645160" y="2836800"/>
              <a:ext cx="334800" cy="1440"/>
            </a:xfrm>
            <a:prstGeom prst="line">
              <a:avLst/>
            </a:prstGeom>
            <a:ln w="18360">
              <a:solidFill>
                <a:srgbClr val="f7964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2" name="Text Box 869"/>
            <p:cNvSpPr/>
            <p:nvPr/>
          </p:nvSpPr>
          <p:spPr>
            <a:xfrm>
              <a:off x="1612800" y="1665360"/>
              <a:ext cx="517320" cy="1173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1Gb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port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3" name="Text Box 873"/>
            <p:cNvSpPr/>
            <p:nvPr/>
          </p:nvSpPr>
          <p:spPr>
            <a:xfrm>
              <a:off x="4606920" y="3338640"/>
              <a:ext cx="4762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elay rate regis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4" name="Text Box 877"/>
            <p:cNvSpPr/>
            <p:nvPr/>
          </p:nvSpPr>
          <p:spPr>
            <a:xfrm>
              <a:off x="7291440" y="1117440"/>
              <a:ext cx="6588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Integer sample delay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5" name="Text Box 878"/>
            <p:cNvSpPr/>
            <p:nvPr/>
          </p:nvSpPr>
          <p:spPr>
            <a:xfrm>
              <a:off x="2187360" y="1565280"/>
              <a:ext cx="5061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UDP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Offload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32 bits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6" name="Text Box 927"/>
            <p:cNvSpPr/>
            <p:nvPr/>
          </p:nvSpPr>
          <p:spPr>
            <a:xfrm>
              <a:off x="2739960" y="1214280"/>
              <a:ext cx="542880" cy="207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Packet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ecod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7" name="Line 933"/>
            <p:cNvSpPr/>
            <p:nvPr/>
          </p:nvSpPr>
          <p:spPr>
            <a:xfrm>
              <a:off x="3276360" y="1711440"/>
              <a:ext cx="2714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8" name="Line 933"/>
            <p:cNvSpPr/>
            <p:nvPr/>
          </p:nvSpPr>
          <p:spPr>
            <a:xfrm>
              <a:off x="3286080" y="2716200"/>
              <a:ext cx="2728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9" name="Text Box 832"/>
            <p:cNvSpPr/>
            <p:nvPr/>
          </p:nvSpPr>
          <p:spPr>
            <a:xfrm>
              <a:off x="3560760" y="2300400"/>
              <a:ext cx="595080" cy="973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</a:t>
              </a:r>
              <a:r>
                <a:rPr b="0" lang="en-US" sz="1000" spc="-1" strike="noStrike" baseline="-25000">
                  <a:solidFill>
                    <a:srgbClr val="0033cc"/>
                  </a:solidFill>
                  <a:latin typeface="Times New Roman"/>
                  <a:ea typeface="Arial"/>
                </a:rPr>
                <a:t>1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Fifo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 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0" name="Line 860"/>
            <p:cNvSpPr/>
            <p:nvPr/>
          </p:nvSpPr>
          <p:spPr>
            <a:xfrm>
              <a:off x="5483160" y="3461040"/>
              <a:ext cx="1066680" cy="0"/>
            </a:xfrm>
            <a:prstGeom prst="line">
              <a:avLst/>
            </a:prstGeom>
            <a:ln w="18360">
              <a:solidFill>
                <a:srgbClr val="009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1" name="Line 860"/>
            <p:cNvSpPr/>
            <p:nvPr/>
          </p:nvSpPr>
          <p:spPr>
            <a:xfrm>
              <a:off x="6550200" y="2127240"/>
              <a:ext cx="0" cy="1349280"/>
            </a:xfrm>
            <a:prstGeom prst="line">
              <a:avLst/>
            </a:prstGeom>
            <a:ln w="18360">
              <a:solidFill>
                <a:srgbClr val="009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2" name="Text Box 873"/>
            <p:cNvSpPr/>
            <p:nvPr/>
          </p:nvSpPr>
          <p:spPr>
            <a:xfrm>
              <a:off x="6970680" y="2441520"/>
              <a:ext cx="907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Output taps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3" name="Text Box 877"/>
            <p:cNvSpPr/>
            <p:nvPr/>
          </p:nvSpPr>
          <p:spPr>
            <a:xfrm>
              <a:off x="7283520" y="1754280"/>
              <a:ext cx="6588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Fractional sample delay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4" name="Line 859"/>
            <p:cNvSpPr/>
            <p:nvPr/>
          </p:nvSpPr>
          <p:spPr>
            <a:xfrm>
              <a:off x="7189920" y="2162160"/>
              <a:ext cx="98244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5" name="Text Box 873"/>
            <p:cNvSpPr/>
            <p:nvPr/>
          </p:nvSpPr>
          <p:spPr>
            <a:xfrm>
              <a:off x="5005440" y="3132360"/>
              <a:ext cx="1713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6" name="Text Box 873"/>
            <p:cNvSpPr/>
            <p:nvPr/>
          </p:nvSpPr>
          <p:spPr>
            <a:xfrm>
              <a:off x="6228000" y="3164040"/>
              <a:ext cx="1713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7" name="Text Box 873"/>
            <p:cNvSpPr/>
            <p:nvPr/>
          </p:nvSpPr>
          <p:spPr>
            <a:xfrm>
              <a:off x="5005440" y="2219400"/>
              <a:ext cx="2095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31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8" name="Text Box 873"/>
            <p:cNvSpPr/>
            <p:nvPr/>
          </p:nvSpPr>
          <p:spPr>
            <a:xfrm>
              <a:off x="6222960" y="1023840"/>
              <a:ext cx="209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59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9" name="Text Box 873"/>
            <p:cNvSpPr/>
            <p:nvPr/>
          </p:nvSpPr>
          <p:spPr>
            <a:xfrm>
              <a:off x="6228000" y="1531800"/>
              <a:ext cx="2095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51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0" name="Text Box 873"/>
            <p:cNvSpPr/>
            <p:nvPr/>
          </p:nvSpPr>
          <p:spPr>
            <a:xfrm>
              <a:off x="6228000" y="2401920"/>
              <a:ext cx="2095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20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1" name="Right Bracket 118"/>
            <p:cNvSpPr/>
            <p:nvPr/>
          </p:nvSpPr>
          <p:spPr>
            <a:xfrm>
              <a:off x="6981840" y="1063440"/>
              <a:ext cx="171360" cy="958680"/>
            </a:xfrm>
            <a:custGeom>
              <a:avLst/>
              <a:gdLst>
                <a:gd name="textAreaLeft" fmla="*/ 0 w 171360"/>
                <a:gd name="textAreaRight" fmla="*/ 120240 w 171360"/>
                <a:gd name="textAreaTop" fmla="*/ 7920 h 958680"/>
                <a:gd name="textAreaBottom" fmla="*/ 95076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83"/>
                    <a:pt x="21600" y="365"/>
                  </a:cubicBezTo>
                  <a:lnTo>
                    <a:pt x="21600" y="21235"/>
                  </a:lnTo>
                  <a:cubicBezTo>
                    <a:pt x="21600" y="21418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618ffd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2" name="Right Bracket 119"/>
            <p:cNvSpPr/>
            <p:nvPr/>
          </p:nvSpPr>
          <p:spPr>
            <a:xfrm>
              <a:off x="6981840" y="2028960"/>
              <a:ext cx="171360" cy="296640"/>
            </a:xfrm>
            <a:custGeom>
              <a:avLst/>
              <a:gdLst>
                <a:gd name="textAreaLeft" fmla="*/ 0 w 171360"/>
                <a:gd name="textAreaRight" fmla="*/ 120240 w 171360"/>
                <a:gd name="textAreaTop" fmla="*/ 7920 h 296640"/>
                <a:gd name="textAreaBottom" fmla="*/ 288720 h 29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90"/>
                    <a:pt x="21600" y="1180"/>
                  </a:cubicBezTo>
                  <a:lnTo>
                    <a:pt x="21600" y="20420"/>
                  </a:lnTo>
                  <a:cubicBezTo>
                    <a:pt x="21600" y="2101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618ffd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3" name="Text Box 873"/>
            <p:cNvSpPr/>
            <p:nvPr/>
          </p:nvSpPr>
          <p:spPr>
            <a:xfrm>
              <a:off x="6799320" y="990720"/>
              <a:ext cx="2095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59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4" name="Text Box 873"/>
            <p:cNvSpPr/>
            <p:nvPr/>
          </p:nvSpPr>
          <p:spPr>
            <a:xfrm>
              <a:off x="6810480" y="1874880"/>
              <a:ext cx="2095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28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5" name="Text Box 873"/>
            <p:cNvSpPr/>
            <p:nvPr/>
          </p:nvSpPr>
          <p:spPr>
            <a:xfrm>
              <a:off x="6810480" y="2028960"/>
              <a:ext cx="2095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27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6" name="Text Box 873"/>
            <p:cNvSpPr/>
            <p:nvPr/>
          </p:nvSpPr>
          <p:spPr>
            <a:xfrm>
              <a:off x="6818400" y="2203560"/>
              <a:ext cx="209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24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7" name="Text Box 873"/>
            <p:cNvSpPr/>
            <p:nvPr/>
          </p:nvSpPr>
          <p:spPr>
            <a:xfrm>
              <a:off x="5664240" y="3517920"/>
              <a:ext cx="833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elay accumulator 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 txBox="1"/>
          <p:nvPr/>
        </p:nvSpPr>
        <p:spPr>
          <a:xfrm>
            <a:off x="429840" y="4152600"/>
            <a:ext cx="900108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set of coefficients is loaded at the start of every integ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s Delay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once per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set between delay and rate increase dynamic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ficients are currently 32 bits, will be 4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derivative coefficient is stored but not current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elay Model Applica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ger (whole sample) part of the delay determines the address of the first sample in the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xt 8 bits are used to calculate a phase correction to the nearest 1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ction is applied to the frequency bins as they exit th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delay correction rolls over a whole sample during an integration, one sample is skipped or repeated and a 90 degree correction is applied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42" name="Content Placeholder 1" descr="sigflow_fn.png"/>
          <p:cNvPicPr/>
          <p:nvPr/>
        </p:nvPicPr>
        <p:blipFill>
          <a:blip r:embed="rId1"/>
          <a:srcRect l="0" t="-21113" r="0" b="-21113"/>
          <a:stretch/>
        </p:blipFill>
        <p:spPr>
          <a:xfrm>
            <a:off x="1027080" y="2552760"/>
            <a:ext cx="745164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Phase corre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29840" y="4800600"/>
            <a:ext cx="89931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s Phase =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Σ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nce per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is applied in a quadrature mixer at the input to the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ficients currently 48 bits, will be 64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Group 5"/>
          <p:cNvGrpSpPr/>
          <p:nvPr/>
        </p:nvGrpSpPr>
        <p:grpSpPr>
          <a:xfrm>
            <a:off x="2314440" y="917640"/>
            <a:ext cx="4810320" cy="3527280"/>
            <a:chOff x="2314440" y="917640"/>
            <a:chExt cx="4810320" cy="3527280"/>
          </a:xfrm>
        </p:grpSpPr>
        <p:sp>
          <p:nvSpPr>
            <p:cNvPr id="1247" name="Rectangle 6"/>
            <p:cNvSpPr/>
            <p:nvPr/>
          </p:nvSpPr>
          <p:spPr>
            <a:xfrm>
              <a:off x="5742000" y="2602800"/>
              <a:ext cx="135000" cy="1122480"/>
            </a:xfrm>
            <a:prstGeom prst="rect">
              <a:avLst/>
            </a:prstGeom>
            <a:solidFill>
              <a:srgbClr val="999999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48" name="Rectangle 7"/>
            <p:cNvSpPr/>
            <p:nvPr/>
          </p:nvSpPr>
          <p:spPr>
            <a:xfrm>
              <a:off x="4856040" y="1766160"/>
              <a:ext cx="135000" cy="11224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49" name="Rectangle 8"/>
            <p:cNvSpPr/>
            <p:nvPr/>
          </p:nvSpPr>
          <p:spPr>
            <a:xfrm>
              <a:off x="3464280" y="917640"/>
              <a:ext cx="135000" cy="11224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0" name="Rectangle 9"/>
            <p:cNvSpPr/>
            <p:nvPr/>
          </p:nvSpPr>
          <p:spPr>
            <a:xfrm>
              <a:off x="3470040" y="2626920"/>
              <a:ext cx="135000" cy="112104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1" name="Rectangle 10"/>
            <p:cNvSpPr/>
            <p:nvPr/>
          </p:nvSpPr>
          <p:spPr>
            <a:xfrm>
              <a:off x="4856040" y="3101760"/>
              <a:ext cx="135000" cy="1122480"/>
            </a:xfrm>
            <a:prstGeom prst="rect">
              <a:avLst/>
            </a:prstGeom>
            <a:solidFill>
              <a:srgbClr val="56ff49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2" name="Rectangle 11"/>
            <p:cNvSpPr/>
            <p:nvPr/>
          </p:nvSpPr>
          <p:spPr>
            <a:xfrm>
              <a:off x="2658600" y="917640"/>
              <a:ext cx="135000" cy="1122480"/>
            </a:xfrm>
            <a:prstGeom prst="rect">
              <a:avLst/>
            </a:prstGeom>
            <a:solidFill>
              <a:srgbClr val="56ff49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 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3" name="Rectangle 12"/>
            <p:cNvSpPr/>
            <p:nvPr/>
          </p:nvSpPr>
          <p:spPr>
            <a:xfrm>
              <a:off x="2658600" y="2645280"/>
              <a:ext cx="135000" cy="1122480"/>
            </a:xfrm>
            <a:prstGeom prst="rect">
              <a:avLst/>
            </a:prstGeom>
            <a:solidFill>
              <a:srgbClr val="56ff49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4" name="Oval 13"/>
            <p:cNvSpPr/>
            <p:nvPr/>
          </p:nvSpPr>
          <p:spPr>
            <a:xfrm>
              <a:off x="5289480" y="3040560"/>
              <a:ext cx="272880" cy="23256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5" name="Oval 14"/>
            <p:cNvSpPr/>
            <p:nvPr/>
          </p:nvSpPr>
          <p:spPr>
            <a:xfrm>
              <a:off x="4387320" y="2222280"/>
              <a:ext cx="272880" cy="23256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6" name="Oval 15"/>
            <p:cNvSpPr/>
            <p:nvPr/>
          </p:nvSpPr>
          <p:spPr>
            <a:xfrm>
              <a:off x="3902040" y="2223720"/>
              <a:ext cx="272880" cy="23256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7" name="Oval 16"/>
            <p:cNvSpPr/>
            <p:nvPr/>
          </p:nvSpPr>
          <p:spPr>
            <a:xfrm>
              <a:off x="3005640" y="3087000"/>
              <a:ext cx="272880" cy="23400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58" name="Straight Arrow Connector 17"/>
            <p:cNvCxnSpPr/>
            <p:nvPr/>
          </p:nvCxnSpPr>
          <p:spPr>
            <a:xfrm>
              <a:off x="4991040" y="2879280"/>
              <a:ext cx="346320" cy="222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59" name="Straight Arrow Connector 18"/>
            <p:cNvCxnSpPr/>
            <p:nvPr/>
          </p:nvCxnSpPr>
          <p:spPr>
            <a:xfrm>
              <a:off x="5562360" y="316116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0" name="Straight Arrow Connector 19"/>
            <p:cNvCxnSpPr/>
            <p:nvPr/>
          </p:nvCxnSpPr>
          <p:spPr>
            <a:xfrm>
              <a:off x="2793600" y="321300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1" name="Straight Arrow Connector 20"/>
            <p:cNvCxnSpPr/>
            <p:nvPr/>
          </p:nvCxnSpPr>
          <p:spPr>
            <a:xfrm>
              <a:off x="3267000" y="321444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2" name="Straight Arrow Connector 21"/>
            <p:cNvCxnSpPr/>
            <p:nvPr/>
          </p:nvCxnSpPr>
          <p:spPr>
            <a:xfrm>
              <a:off x="4181040" y="233640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3" name="Straight Arrow Connector 22"/>
            <p:cNvCxnSpPr/>
            <p:nvPr/>
          </p:nvCxnSpPr>
          <p:spPr>
            <a:xfrm>
              <a:off x="4658760" y="234288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4" name="Straight Arrow Connector 23"/>
            <p:cNvCxnSpPr/>
            <p:nvPr/>
          </p:nvCxnSpPr>
          <p:spPr>
            <a:xfrm>
              <a:off x="3605040" y="2039760"/>
              <a:ext cx="344880" cy="222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5" name="Straight Arrow Connector 24"/>
            <p:cNvCxnSpPr/>
            <p:nvPr/>
          </p:nvCxnSpPr>
          <p:spPr>
            <a:xfrm flipV="1">
              <a:off x="4991040" y="3222360"/>
              <a:ext cx="346320" cy="24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6" name="Straight Arrow Connector 25"/>
            <p:cNvCxnSpPr/>
            <p:nvPr/>
          </p:nvCxnSpPr>
          <p:spPr>
            <a:xfrm flipV="1">
              <a:off x="3599280" y="2403000"/>
              <a:ext cx="344880" cy="24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7" name="Straight Arrow Connector 26"/>
            <p:cNvCxnSpPr/>
            <p:nvPr/>
          </p:nvCxnSpPr>
          <p:spPr>
            <a:xfrm flipV="1">
              <a:off x="2793240" y="1580400"/>
              <a:ext cx="306360" cy="1632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68" name="Oval 27"/>
            <p:cNvSpPr/>
            <p:nvPr/>
          </p:nvSpPr>
          <p:spPr>
            <a:xfrm>
              <a:off x="2981880" y="1348560"/>
              <a:ext cx="272880" cy="23256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69" name="Straight Arrow Connector 28"/>
            <p:cNvCxnSpPr/>
            <p:nvPr/>
          </p:nvCxnSpPr>
          <p:spPr>
            <a:xfrm>
              <a:off x="2793600" y="146232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0" name="Straight Arrow Connector 29"/>
            <p:cNvCxnSpPr/>
            <p:nvPr/>
          </p:nvCxnSpPr>
          <p:spPr>
            <a:xfrm>
              <a:off x="3255120" y="146232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1" name="Straight Arrow Connector 30"/>
            <p:cNvCxnSpPr/>
            <p:nvPr/>
          </p:nvCxnSpPr>
          <p:spPr>
            <a:xfrm>
              <a:off x="3131640" y="2525760"/>
              <a:ext cx="1080" cy="564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2" name="Straight Arrow Connector 31"/>
            <p:cNvCxnSpPr/>
            <p:nvPr/>
          </p:nvCxnSpPr>
          <p:spPr>
            <a:xfrm flipV="1">
              <a:off x="3132000" y="2522160"/>
              <a:ext cx="463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273" name="Straight Arrow Connector 32"/>
            <p:cNvCxnSpPr/>
            <p:nvPr/>
          </p:nvCxnSpPr>
          <p:spPr>
            <a:xfrm flipH="1" flipV="1">
              <a:off x="3594960" y="2522520"/>
              <a:ext cx="10440" cy="120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274" name="Straight Arrow Connector 33"/>
            <p:cNvCxnSpPr/>
            <p:nvPr/>
          </p:nvCxnSpPr>
          <p:spPr>
            <a:xfrm flipH="1" flipV="1">
              <a:off x="4993920" y="2884320"/>
              <a:ext cx="9360" cy="118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275" name="Straight Arrow Connector 34"/>
            <p:cNvCxnSpPr/>
            <p:nvPr/>
          </p:nvCxnSpPr>
          <p:spPr>
            <a:xfrm flipV="1">
              <a:off x="4528080" y="3002400"/>
              <a:ext cx="463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276" name="Straight Arrow Connector 35"/>
            <p:cNvCxnSpPr/>
            <p:nvPr/>
          </p:nvCxnSpPr>
          <p:spPr>
            <a:xfrm flipV="1">
              <a:off x="4527720" y="2454840"/>
              <a:ext cx="1080" cy="548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77" name="Text Box 1836"/>
            <p:cNvSpPr/>
            <p:nvPr/>
          </p:nvSpPr>
          <p:spPr>
            <a:xfrm>
              <a:off x="3716640" y="2493720"/>
              <a:ext cx="34272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2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8" name="Text Box 1837"/>
            <p:cNvSpPr/>
            <p:nvPr/>
          </p:nvSpPr>
          <p:spPr>
            <a:xfrm>
              <a:off x="4633560" y="4239000"/>
              <a:ext cx="6688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gis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9" name="Text Box 1838"/>
            <p:cNvSpPr/>
            <p:nvPr/>
          </p:nvSpPr>
          <p:spPr>
            <a:xfrm>
              <a:off x="2412360" y="3798720"/>
              <a:ext cx="6688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gis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0" name="Text Box 1839"/>
            <p:cNvSpPr/>
            <p:nvPr/>
          </p:nvSpPr>
          <p:spPr>
            <a:xfrm>
              <a:off x="2314440" y="2062800"/>
              <a:ext cx="6688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gis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1" name="Right Bracket 40"/>
            <p:cNvSpPr/>
            <p:nvPr/>
          </p:nvSpPr>
          <p:spPr>
            <a:xfrm>
              <a:off x="6279120" y="2602800"/>
              <a:ext cx="135000" cy="276480"/>
            </a:xfrm>
            <a:custGeom>
              <a:avLst/>
              <a:gdLst>
                <a:gd name="textAreaLeft" fmla="*/ 0 w 135000"/>
                <a:gd name="textAreaRight" fmla="*/ 94680 w 135000"/>
                <a:gd name="textAreaTop" fmla="*/ 5040 h 276480"/>
                <a:gd name="textAreaBottom" fmla="*/ 271440 h 2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394"/>
                    <a:pt x="21600" y="787"/>
                  </a:cubicBezTo>
                  <a:lnTo>
                    <a:pt x="21600" y="20813"/>
                  </a:lnTo>
                  <a:cubicBezTo>
                    <a:pt x="21600" y="21207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618ffd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82" name="Straight Arrow Connector 41"/>
            <p:cNvCxnSpPr/>
            <p:nvPr/>
          </p:nvCxnSpPr>
          <p:spPr>
            <a:xfrm>
              <a:off x="6447960" y="2727360"/>
              <a:ext cx="677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83" name="Text Box 1842"/>
            <p:cNvSpPr/>
            <p:nvPr/>
          </p:nvSpPr>
          <p:spPr>
            <a:xfrm>
              <a:off x="6497280" y="2403360"/>
              <a:ext cx="5590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to mix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4"/>
          <p:cNvGrpSpPr/>
          <p:nvPr/>
        </p:nvGrpSpPr>
        <p:grpSpPr>
          <a:xfrm>
            <a:off x="44280" y="189000"/>
            <a:ext cx="9834840" cy="2612880"/>
            <a:chOff x="44280" y="189000"/>
            <a:chExt cx="9834840" cy="2612880"/>
          </a:xfrm>
        </p:grpSpPr>
        <p:sp>
          <p:nvSpPr>
            <p:cNvPr id="1285" name="Rectangle 5"/>
            <p:cNvSpPr/>
            <p:nvPr/>
          </p:nvSpPr>
          <p:spPr>
            <a:xfrm>
              <a:off x="843120" y="1028520"/>
              <a:ext cx="779760" cy="521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6" name="TextBox 6"/>
            <p:cNvSpPr/>
            <p:nvPr/>
          </p:nvSpPr>
          <p:spPr>
            <a:xfrm>
              <a:off x="1066320" y="11653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7" name="Rectangle 8"/>
            <p:cNvSpPr/>
            <p:nvPr/>
          </p:nvSpPr>
          <p:spPr>
            <a:xfrm>
              <a:off x="2090160" y="1028520"/>
              <a:ext cx="779760" cy="5212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8" name="TextBox 9"/>
            <p:cNvSpPr/>
            <p:nvPr/>
          </p:nvSpPr>
          <p:spPr>
            <a:xfrm>
              <a:off x="2108880" y="116532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fram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9" name="Rectangle 11"/>
            <p:cNvSpPr/>
            <p:nvPr/>
          </p:nvSpPr>
          <p:spPr>
            <a:xfrm>
              <a:off x="3337200" y="1028520"/>
              <a:ext cx="779760" cy="5212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0" name="TextBox 12"/>
            <p:cNvSpPr/>
            <p:nvPr/>
          </p:nvSpPr>
          <p:spPr>
            <a:xfrm>
              <a:off x="3433680" y="1081440"/>
              <a:ext cx="599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rn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urner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1" name="Rectangle 14"/>
            <p:cNvSpPr/>
            <p:nvPr/>
          </p:nvSpPr>
          <p:spPr>
            <a:xfrm>
              <a:off x="4639320" y="1418040"/>
              <a:ext cx="779760" cy="52128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2" name="TextBox 15"/>
            <p:cNvSpPr/>
            <p:nvPr/>
          </p:nvSpPr>
          <p:spPr>
            <a:xfrm>
              <a:off x="4729680" y="1470600"/>
              <a:ext cx="61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Validity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ccu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3" name="Rectangle 17"/>
            <p:cNvSpPr/>
            <p:nvPr/>
          </p:nvSpPr>
          <p:spPr>
            <a:xfrm>
              <a:off x="4653000" y="646920"/>
              <a:ext cx="779760" cy="521280"/>
            </a:xfrm>
            <a:prstGeom prst="rect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4" name="TextBox 18"/>
            <p:cNvSpPr/>
            <p:nvPr/>
          </p:nvSpPr>
          <p:spPr>
            <a:xfrm>
              <a:off x="4590360" y="708480"/>
              <a:ext cx="894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rrelator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ngin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5" name="Rectangle 20"/>
            <p:cNvSpPr/>
            <p:nvPr/>
          </p:nvSpPr>
          <p:spPr>
            <a:xfrm>
              <a:off x="4639320" y="2280600"/>
              <a:ext cx="779760" cy="52128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6" name="TextBox 21"/>
            <p:cNvSpPr/>
            <p:nvPr/>
          </p:nvSpPr>
          <p:spPr>
            <a:xfrm>
              <a:off x="4762440" y="2417400"/>
              <a:ext cx="50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OPC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7" name="Rectangle 23"/>
            <p:cNvSpPr/>
            <p:nvPr/>
          </p:nvSpPr>
          <p:spPr>
            <a:xfrm>
              <a:off x="5913720" y="2280600"/>
              <a:ext cx="779760" cy="521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8" name="TextBox 24"/>
            <p:cNvSpPr/>
            <p:nvPr/>
          </p:nvSpPr>
          <p:spPr>
            <a:xfrm>
              <a:off x="5967000" y="241740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1Gb-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9" name="Rectangle 26"/>
            <p:cNvSpPr/>
            <p:nvPr/>
          </p:nvSpPr>
          <p:spPr>
            <a:xfrm>
              <a:off x="6553440" y="650520"/>
              <a:ext cx="779760" cy="5212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00" name="TextBox 27"/>
            <p:cNvSpPr/>
            <p:nvPr/>
          </p:nvSpPr>
          <p:spPr>
            <a:xfrm>
              <a:off x="6559920" y="787320"/>
              <a:ext cx="77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ormatt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01" name="Rectangle 29"/>
            <p:cNvSpPr/>
            <p:nvPr/>
          </p:nvSpPr>
          <p:spPr>
            <a:xfrm>
              <a:off x="7802640" y="650520"/>
              <a:ext cx="779760" cy="521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02" name="TextBox 30"/>
            <p:cNvSpPr/>
            <p:nvPr/>
          </p:nvSpPr>
          <p:spPr>
            <a:xfrm>
              <a:off x="7809120" y="78732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10Gb-Eth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03" name="Straight Arrow Connector 31"/>
            <p:cNvCxnSpPr/>
            <p:nvPr/>
          </p:nvCxnSpPr>
          <p:spPr>
            <a:xfrm flipV="1">
              <a:off x="1625760" y="1289520"/>
              <a:ext cx="46944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4" name="Straight Arrow Connector 32"/>
            <p:cNvCxnSpPr/>
            <p:nvPr/>
          </p:nvCxnSpPr>
          <p:spPr>
            <a:xfrm flipV="1">
              <a:off x="2863800" y="1283760"/>
              <a:ext cx="46944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5" name="Straight Arrow Connector 33"/>
            <p:cNvCxnSpPr/>
            <p:nvPr/>
          </p:nvCxnSpPr>
          <p:spPr>
            <a:xfrm flipV="1">
              <a:off x="520560" y="1289520"/>
              <a:ext cx="315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34"/>
            <p:cNvCxnSpPr/>
            <p:nvPr/>
          </p:nvCxnSpPr>
          <p:spPr>
            <a:xfrm flipV="1">
              <a:off x="7333920" y="900000"/>
              <a:ext cx="46944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35"/>
            <p:cNvCxnSpPr/>
            <p:nvPr/>
          </p:nvCxnSpPr>
          <p:spPr>
            <a:xfrm flipV="1">
              <a:off x="3718080" y="707760"/>
              <a:ext cx="1080" cy="322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08" name="Elbow Connector 36"/>
            <p:cNvCxnSpPr/>
            <p:nvPr/>
          </p:nvCxnSpPr>
          <p:spPr>
            <a:xfrm flipV="1">
              <a:off x="4110120" y="910800"/>
              <a:ext cx="543960" cy="21240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09" name="Elbow Connector 37"/>
            <p:cNvCxnSpPr/>
            <p:nvPr/>
          </p:nvCxnSpPr>
          <p:spPr>
            <a:xfrm>
              <a:off x="4116960" y="1449360"/>
              <a:ext cx="523080" cy="22968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10" name="Straight Arrow Connector 38"/>
            <p:cNvCxnSpPr/>
            <p:nvPr/>
          </p:nvCxnSpPr>
          <p:spPr>
            <a:xfrm>
              <a:off x="5437080" y="908280"/>
              <a:ext cx="11145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1" name="Elbow Connector 39"/>
            <p:cNvCxnSpPr/>
            <p:nvPr/>
          </p:nvCxnSpPr>
          <p:spPr>
            <a:xfrm flipV="1">
              <a:off x="5417280" y="1071000"/>
              <a:ext cx="1127880" cy="613440"/>
            </a:xfrm>
            <a:prstGeom prst="bentConnector3">
              <a:avLst>
                <a:gd name="adj1" fmla="val 79278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12" name="Elbow Connector 40"/>
            <p:cNvCxnSpPr/>
            <p:nvPr/>
          </p:nvCxnSpPr>
          <p:spPr>
            <a:xfrm flipH="1" rot="16200000">
              <a:off x="5187240" y="1315080"/>
              <a:ext cx="1203120" cy="715320"/>
            </a:xfrm>
            <a:prstGeom prst="bentConnector3">
              <a:avLst>
                <a:gd name="adj1" fmla="val 0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13" name="Elbow Connector 41"/>
            <p:cNvCxnSpPr/>
            <p:nvPr/>
          </p:nvCxnSpPr>
          <p:spPr>
            <a:xfrm>
              <a:off x="5416920" y="1855800"/>
              <a:ext cx="598680" cy="418680"/>
            </a:xfrm>
            <a:prstGeom prst="bentConnector3">
              <a:avLst>
                <a:gd name="adj1" fmla="val 99398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14" name="Straight Arrow Connector 42"/>
            <p:cNvCxnSpPr/>
            <p:nvPr/>
          </p:nvCxnSpPr>
          <p:spPr>
            <a:xfrm>
              <a:off x="6695640" y="2545200"/>
              <a:ext cx="532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15" name="Straight Arrow Connector 43"/>
            <p:cNvCxnSpPr>
              <a:endCxn id="1297" idx="1"/>
            </p:cNvCxnSpPr>
            <p:nvPr/>
          </p:nvCxnSpPr>
          <p:spPr>
            <a:xfrm flipV="1">
              <a:off x="5423400" y="2540520"/>
              <a:ext cx="490680" cy="46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16" name="Straight Arrow Connector 44"/>
            <p:cNvCxnSpPr/>
            <p:nvPr/>
          </p:nvCxnSpPr>
          <p:spPr>
            <a:xfrm flipV="1">
              <a:off x="8584920" y="900000"/>
              <a:ext cx="392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7" name="Rectangle 46"/>
            <p:cNvSpPr/>
            <p:nvPr/>
          </p:nvSpPr>
          <p:spPr>
            <a:xfrm>
              <a:off x="44280" y="1162800"/>
              <a:ext cx="50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es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18" name="TextBox 47"/>
            <p:cNvSpPr/>
            <p:nvPr/>
          </p:nvSpPr>
          <p:spPr>
            <a:xfrm>
              <a:off x="8899920" y="77328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 Switc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19" name="TextBox 48"/>
            <p:cNvSpPr/>
            <p:nvPr/>
          </p:nvSpPr>
          <p:spPr>
            <a:xfrm>
              <a:off x="7158960" y="2427120"/>
              <a:ext cx="165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ntrol Comput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0" name="Rectangle 55"/>
            <p:cNvSpPr/>
            <p:nvPr/>
          </p:nvSpPr>
          <p:spPr>
            <a:xfrm>
              <a:off x="3328560" y="1875240"/>
              <a:ext cx="779760" cy="521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1" name="Rectangle 56"/>
            <p:cNvSpPr/>
            <p:nvPr/>
          </p:nvSpPr>
          <p:spPr>
            <a:xfrm>
              <a:off x="3328560" y="189000"/>
              <a:ext cx="779760" cy="521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22" name="Straight Arrow Connector 57"/>
            <p:cNvCxnSpPr/>
            <p:nvPr/>
          </p:nvCxnSpPr>
          <p:spPr>
            <a:xfrm flipV="1">
              <a:off x="3718080" y="1554120"/>
              <a:ext cx="1080" cy="322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23" name="TextBox 58"/>
            <p:cNvSpPr/>
            <p:nvPr/>
          </p:nvSpPr>
          <p:spPr>
            <a:xfrm>
              <a:off x="3447360" y="31860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_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4" name="TextBox 59"/>
            <p:cNvSpPr/>
            <p:nvPr/>
          </p:nvSpPr>
          <p:spPr>
            <a:xfrm>
              <a:off x="3424320" y="20070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_I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1325" name="Group 7"/>
          <p:cNvGrpSpPr/>
          <p:nvPr/>
        </p:nvGrpSpPr>
        <p:grpSpPr>
          <a:xfrm>
            <a:off x="1363680" y="2924280"/>
            <a:ext cx="3117960" cy="3744720"/>
            <a:chOff x="1363680" y="2924280"/>
            <a:chExt cx="3117960" cy="3744720"/>
          </a:xfrm>
        </p:grpSpPr>
        <p:sp>
          <p:nvSpPr>
            <p:cNvPr id="1326" name="Rectangle 49"/>
            <p:cNvSpPr/>
            <p:nvPr/>
          </p:nvSpPr>
          <p:spPr>
            <a:xfrm>
              <a:off x="1363680" y="2924280"/>
              <a:ext cx="3111840" cy="37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7" name="Rectangle 50"/>
            <p:cNvSpPr/>
            <p:nvPr/>
          </p:nvSpPr>
          <p:spPr>
            <a:xfrm>
              <a:off x="1415880" y="3173040"/>
              <a:ext cx="1168920" cy="6631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8" name="Rectangle 51"/>
            <p:cNvSpPr/>
            <p:nvPr/>
          </p:nvSpPr>
          <p:spPr>
            <a:xfrm>
              <a:off x="1415880" y="5564880"/>
              <a:ext cx="1168920" cy="6631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9" name="Rectangle 52"/>
            <p:cNvSpPr/>
            <p:nvPr/>
          </p:nvSpPr>
          <p:spPr>
            <a:xfrm>
              <a:off x="2294280" y="3884400"/>
              <a:ext cx="2132640" cy="1632240"/>
            </a:xfrm>
            <a:prstGeom prst="rect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0" name="Rectangle 53"/>
            <p:cNvSpPr/>
            <p:nvPr/>
          </p:nvSpPr>
          <p:spPr>
            <a:xfrm>
              <a:off x="2633400" y="2972160"/>
              <a:ext cx="1454040" cy="86400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1" name="Rectangle 54"/>
            <p:cNvSpPr/>
            <p:nvPr/>
          </p:nvSpPr>
          <p:spPr>
            <a:xfrm>
              <a:off x="1857960" y="3980520"/>
              <a:ext cx="387720" cy="144036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2" name="Rectangle 60"/>
            <p:cNvSpPr/>
            <p:nvPr/>
          </p:nvSpPr>
          <p:spPr>
            <a:xfrm>
              <a:off x="1415880" y="4532040"/>
              <a:ext cx="387720" cy="7678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3" name="Rectangle 61"/>
            <p:cNvSpPr/>
            <p:nvPr/>
          </p:nvSpPr>
          <p:spPr>
            <a:xfrm>
              <a:off x="2871360" y="5564880"/>
              <a:ext cx="389880" cy="61704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4" name="Rectangle 62"/>
            <p:cNvSpPr/>
            <p:nvPr/>
          </p:nvSpPr>
          <p:spPr>
            <a:xfrm>
              <a:off x="3893760" y="5564880"/>
              <a:ext cx="533160" cy="1061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5" name="Rectangle 63"/>
            <p:cNvSpPr/>
            <p:nvPr/>
          </p:nvSpPr>
          <p:spPr>
            <a:xfrm>
              <a:off x="3312000" y="5564880"/>
              <a:ext cx="533160" cy="767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6" name="TextBox 64"/>
            <p:cNvSpPr/>
            <p:nvPr/>
          </p:nvSpPr>
          <p:spPr>
            <a:xfrm>
              <a:off x="3851280" y="602496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0Gb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-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7" name="TextBox 65"/>
            <p:cNvSpPr/>
            <p:nvPr/>
          </p:nvSpPr>
          <p:spPr>
            <a:xfrm>
              <a:off x="3255120" y="5875200"/>
              <a:ext cx="66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ormat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8" name="TextBox 66"/>
            <p:cNvSpPr/>
            <p:nvPr/>
          </p:nvSpPr>
          <p:spPr>
            <a:xfrm>
              <a:off x="2845080" y="5780880"/>
              <a:ext cx="44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OPC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9" name="TextBox 67"/>
            <p:cNvSpPr/>
            <p:nvPr/>
          </p:nvSpPr>
          <p:spPr>
            <a:xfrm rot="16200000">
              <a:off x="1634040" y="461736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rner Turn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0" name="TextBox 68"/>
            <p:cNvSpPr/>
            <p:nvPr/>
          </p:nvSpPr>
          <p:spPr>
            <a:xfrm rot="16200000">
              <a:off x="1278720" y="4831920"/>
              <a:ext cx="64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fram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1" name="TextBox 69"/>
            <p:cNvSpPr/>
            <p:nvPr/>
          </p:nvSpPr>
          <p:spPr>
            <a:xfrm>
              <a:off x="2643120" y="4604760"/>
              <a:ext cx="14457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rrelator Engine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(Containing 132 MAC cells)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2" name="TextBox 70"/>
            <p:cNvSpPr/>
            <p:nvPr/>
          </p:nvSpPr>
          <p:spPr>
            <a:xfrm>
              <a:off x="2781720" y="3322080"/>
              <a:ext cx="117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Validity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ccumulato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3" name="TextBox 71"/>
            <p:cNvSpPr/>
            <p:nvPr/>
          </p:nvSpPr>
          <p:spPr>
            <a:xfrm>
              <a:off x="1744920" y="5805000"/>
              <a:ext cx="50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_II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4" name="TextBox 72"/>
            <p:cNvSpPr/>
            <p:nvPr/>
          </p:nvSpPr>
          <p:spPr>
            <a:xfrm>
              <a:off x="1770840" y="3443400"/>
              <a:ext cx="47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_I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5" name="Rectangle 73"/>
            <p:cNvSpPr/>
            <p:nvPr/>
          </p:nvSpPr>
          <p:spPr>
            <a:xfrm>
              <a:off x="1421640" y="4186440"/>
              <a:ext cx="290520" cy="2880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6" name="TextBox 74"/>
            <p:cNvSpPr/>
            <p:nvPr/>
          </p:nvSpPr>
          <p:spPr>
            <a:xfrm>
              <a:off x="1408680" y="4234680"/>
              <a:ext cx="33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7" name="Rectangle 75"/>
            <p:cNvSpPr/>
            <p:nvPr/>
          </p:nvSpPr>
          <p:spPr>
            <a:xfrm>
              <a:off x="2633400" y="5565960"/>
              <a:ext cx="187920" cy="5058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8" name="TextBox 76"/>
            <p:cNvSpPr/>
            <p:nvPr/>
          </p:nvSpPr>
          <p:spPr>
            <a:xfrm rot="16200000">
              <a:off x="2377080" y="5720040"/>
              <a:ext cx="707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Gb-Eth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pic>
        <p:nvPicPr>
          <p:cNvPr id="1349" name="Picture 3" descr="bn_top_chipplanner.jpeg"/>
          <p:cNvPicPr/>
          <p:nvPr/>
        </p:nvPicPr>
        <p:blipFill>
          <a:blip r:embed="rId1"/>
          <a:stretch/>
        </p:blipFill>
        <p:spPr>
          <a:xfrm>
            <a:off x="5173560" y="2924280"/>
            <a:ext cx="3130560" cy="3744720"/>
          </a:xfrm>
          <a:prstGeom prst="rect">
            <a:avLst/>
          </a:prstGeom>
          <a:ln w="0">
            <a:noFill/>
          </a:ln>
        </p:spPr>
      </p:pic>
      <p:sp>
        <p:nvSpPr>
          <p:cNvPr id="1350" name="TextBox 10"/>
          <p:cNvSpPr/>
          <p:nvPr/>
        </p:nvSpPr>
        <p:spPr>
          <a:xfrm>
            <a:off x="361800" y="638172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Floor Pla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1" name="TextBox 77"/>
          <p:cNvSpPr/>
          <p:nvPr/>
        </p:nvSpPr>
        <p:spPr>
          <a:xfrm>
            <a:off x="8348040" y="638172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hys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2" name="TextBox 78"/>
          <p:cNvSpPr/>
          <p:nvPr/>
        </p:nvSpPr>
        <p:spPr>
          <a:xfrm>
            <a:off x="7885440" y="22536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erarch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3" name="TextBox 79"/>
          <p:cNvSpPr/>
          <p:nvPr/>
        </p:nvSpPr>
        <p:spPr>
          <a:xfrm>
            <a:off x="302400" y="200160"/>
            <a:ext cx="22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Back Node Implementatio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orrelator Multiply Accumulate Cell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5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56" name="Picture 6" descr="maccell.png"/>
          <p:cNvPicPr/>
          <p:nvPr/>
        </p:nvPicPr>
        <p:blipFill>
          <a:blip r:embed="rId1"/>
          <a:stretch/>
        </p:blipFill>
        <p:spPr>
          <a:xfrm>
            <a:off x="1295280" y="1028880"/>
            <a:ext cx="730260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Validity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bit per VDIF frame stored in 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hole FFT is invalid if any contributing data are 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ix FFTs in an integration are invalid because pre-filter structure is fill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FFTs are substituted by zeros so do not contribute to th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validity bit per FFT is carried across to BN and corner-turned with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ty-two bit validity accumulators calculate normalization factors for every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urrent Development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n delay/phase coefficients from 32/48 to 48/6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irmware written and under simulation/tes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bands of 32MHz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Under tes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irmware written, needs integration and verificatio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IF Fram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o far only 5000 byte frames have been test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Mixed frame lengths can be supported with further work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sp>
        <p:nvSpPr>
          <p:cNvPr id="1362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Future Development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1, 4 and 8 bit samp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One bit can be supported by converting to 2 bit at the inpu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4 and 8 bit to be added when need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IF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and of 64MHz bandwidth, other mo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ger output data to alleviate bur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pectral resolution to reduce volume of outpu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1024 -&gt; 64 poin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Boar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x to 8x the bandwidth per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UC correlator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Specification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97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430200" y="838080"/>
          <a:ext cx="9001080" cy="4079880"/>
        </p:xfrm>
        <a:graphic>
          <a:graphicData uri="http://schemas.openxmlformats.org/drawingml/2006/table">
            <a:tbl>
              <a:tblPr/>
              <a:tblGrid>
                <a:gridCol w="3000240"/>
                <a:gridCol w="3000600"/>
                <a:gridCol w="300024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upported June 201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tion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larization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dwidth (real time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MHz (1 UNB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n MHz  (n UNBs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-b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(real time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MHz, 32MHz under test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MHz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olu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max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bit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 2, 4, 8 bit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r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 (all products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22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22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rel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c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os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uto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oss-polarization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1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equenc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olution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625kHz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kHz spectral line mode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25kHz continuum mode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ormat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DIF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DIF mixed frame size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Overall Signal Flow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0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1" name="Rectangle 11"/>
          <p:cNvSpPr/>
          <p:nvPr/>
        </p:nvSpPr>
        <p:spPr>
          <a:xfrm>
            <a:off x="1785960" y="1285920"/>
            <a:ext cx="63309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02" name="Picture 4" descr="sigflow_all.png"/>
          <p:cNvPicPr/>
          <p:nvPr/>
        </p:nvPicPr>
        <p:blipFill>
          <a:blip r:embed="rId1"/>
          <a:stretch/>
        </p:blipFill>
        <p:spPr>
          <a:xfrm>
            <a:off x="1778040" y="1282680"/>
            <a:ext cx="6332400" cy="429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3" name="Object 12"/>
          <p:cNvGraphicFramePr/>
          <p:nvPr/>
        </p:nvGraphicFramePr>
        <p:xfrm>
          <a:off x="1757520" y="1270080"/>
          <a:ext cx="6387840" cy="431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7520" y="1270080"/>
                    <a:ext cx="638784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ontrol 1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start of every scan the control computer mus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An application reset to all node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start secon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bandwidth, frame length, integration tim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Which input streams are lower sideband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In the BNs, the products to expor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ing data are stored in a 4 second circula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data stream (station, polarization &amp; band) is determined by the UDP port number and IP addres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time slot is determined by the VDIF time code and frame number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ontrol 2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rocessing begins after 2 seconds of data have been placed in the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Board does not check if all the data has arrived … it waits for the control computer to te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‘second’ the control computer tells the UniBoard how many integrations to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Board indicates via a status bit when it has finished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computer interacts with FN0. FN0 tells the other FN1,2 &amp; 3 when to start and stop process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Board does not know if it is processing disk packs or eVL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 in the data are handled by the validity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iagnostic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diagnostic registers are read and logged by the control computer during a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umber of frames received per input stream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umber of unmatched frames receiv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umber of delay model packets receiv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umber of packets received and transmitted by 10GbE por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Counts of the FFT frames generated by each FN and received by each B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statistics module has been written but not yet integrated into the FN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stations x 2 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All products are calculated but only the necessary ones are export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tations are virtual: the control software can make a 16 or 8 station correlator with 2x or 4x the bandwidth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mode is 4 bands of 16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Wider bands (32MHz, 64MHz) be supported with new firmwar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arrower bands (8MHz, 4MHz …) can be processed at a multiple of real tim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and is channelized to 1024 frequency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Other channelizations could be supported with new firmwar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polyphase filter window function can be changed at run tim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integration time is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Limited by size of DDR3 module used for corner turning 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99"/>
          <p:cNvSpPr/>
          <p:nvPr/>
        </p:nvSpPr>
        <p:spPr>
          <a:xfrm>
            <a:off x="1647720" y="4437000"/>
            <a:ext cx="2428920" cy="2131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118" name="Group 98"/>
          <p:cNvGrpSpPr/>
          <p:nvPr/>
        </p:nvGrpSpPr>
        <p:grpSpPr>
          <a:xfrm>
            <a:off x="168120" y="173160"/>
            <a:ext cx="9477360" cy="2700360"/>
            <a:chOff x="168120" y="173160"/>
            <a:chExt cx="9477360" cy="2700360"/>
          </a:xfrm>
        </p:grpSpPr>
        <p:sp>
          <p:nvSpPr>
            <p:cNvPr id="1119" name="Rectangle 4"/>
            <p:cNvSpPr/>
            <p:nvPr/>
          </p:nvSpPr>
          <p:spPr>
            <a:xfrm>
              <a:off x="1519920" y="1050120"/>
              <a:ext cx="726120" cy="542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0" name="TextBox 5"/>
            <p:cNvSpPr/>
            <p:nvPr/>
          </p:nvSpPr>
          <p:spPr>
            <a:xfrm>
              <a:off x="1516680" y="1192680"/>
              <a:ext cx="72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0Gb-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2536920" y="1044720"/>
              <a:ext cx="726120" cy="548640"/>
            </a:xfrm>
            <a:prstGeom prst="rect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2507040" y="1131840"/>
              <a:ext cx="777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acket Receiv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3" name="Rectangle 10"/>
            <p:cNvSpPr/>
            <p:nvPr/>
          </p:nvSpPr>
          <p:spPr>
            <a:xfrm>
              <a:off x="3553920" y="1050120"/>
              <a:ext cx="726840" cy="542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4" name="TextBox 11"/>
            <p:cNvSpPr/>
            <p:nvPr/>
          </p:nvSpPr>
          <p:spPr>
            <a:xfrm>
              <a:off x="3655080" y="119268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ix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5" name="Rectangle 13"/>
            <p:cNvSpPr/>
            <p:nvPr/>
          </p:nvSpPr>
          <p:spPr>
            <a:xfrm>
              <a:off x="4271400" y="1050120"/>
              <a:ext cx="734760" cy="542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6" name="TextBox 14"/>
            <p:cNvSpPr/>
            <p:nvPr/>
          </p:nvSpPr>
          <p:spPr>
            <a:xfrm>
              <a:off x="4207320" y="1119960"/>
              <a:ext cx="84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re Filter Structur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7" name="Rectangle 16"/>
            <p:cNvSpPr/>
            <p:nvPr/>
          </p:nvSpPr>
          <p:spPr>
            <a:xfrm>
              <a:off x="5006160" y="1050120"/>
              <a:ext cx="726120" cy="542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8" name="TextBox 17"/>
            <p:cNvSpPr/>
            <p:nvPr/>
          </p:nvSpPr>
          <p:spPr>
            <a:xfrm>
              <a:off x="5172840" y="119268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FT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9" name="Rectangle 19"/>
            <p:cNvSpPr/>
            <p:nvPr/>
          </p:nvSpPr>
          <p:spPr>
            <a:xfrm>
              <a:off x="6027840" y="1050120"/>
              <a:ext cx="726120" cy="54288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0" name="TextBox 20"/>
            <p:cNvSpPr/>
            <p:nvPr/>
          </p:nvSpPr>
          <p:spPr>
            <a:xfrm>
              <a:off x="5999760" y="11926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Normaliz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7056000" y="1050120"/>
              <a:ext cx="726120" cy="54288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2" name="TextBox 23"/>
            <p:cNvSpPr/>
            <p:nvPr/>
          </p:nvSpPr>
          <p:spPr>
            <a:xfrm>
              <a:off x="7110720" y="1192680"/>
              <a:ext cx="61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ram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3" name="Rectangle 25"/>
            <p:cNvSpPr/>
            <p:nvPr/>
          </p:nvSpPr>
          <p:spPr>
            <a:xfrm>
              <a:off x="8058600" y="1050120"/>
              <a:ext cx="726120" cy="542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4" name="TextBox 26"/>
            <p:cNvSpPr/>
            <p:nvPr/>
          </p:nvSpPr>
          <p:spPr>
            <a:xfrm>
              <a:off x="8233560" y="119268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5" name="Rectangle 28"/>
            <p:cNvSpPr/>
            <p:nvPr/>
          </p:nvSpPr>
          <p:spPr>
            <a:xfrm>
              <a:off x="3541320" y="1873440"/>
              <a:ext cx="730080" cy="542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6" name="TextBox 29"/>
            <p:cNvSpPr/>
            <p:nvPr/>
          </p:nvSpPr>
          <p:spPr>
            <a:xfrm>
              <a:off x="3514320" y="2015640"/>
              <a:ext cx="766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lay Model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7" name="Rectangle 31"/>
            <p:cNvSpPr/>
            <p:nvPr/>
          </p:nvSpPr>
          <p:spPr>
            <a:xfrm>
              <a:off x="2558520" y="2330640"/>
              <a:ext cx="726120" cy="5428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8" name="TextBox 32"/>
            <p:cNvSpPr/>
            <p:nvPr/>
          </p:nvSpPr>
          <p:spPr>
            <a:xfrm>
              <a:off x="2686320" y="24721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OPC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9" name="Rectangle 34"/>
            <p:cNvSpPr/>
            <p:nvPr/>
          </p:nvSpPr>
          <p:spPr>
            <a:xfrm>
              <a:off x="1520280" y="2015640"/>
              <a:ext cx="726120" cy="542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40" name="TextBox 35"/>
            <p:cNvSpPr/>
            <p:nvPr/>
          </p:nvSpPr>
          <p:spPr>
            <a:xfrm>
              <a:off x="1550160" y="2132280"/>
              <a:ext cx="65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Gb-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141" name="Straight Arrow Connector 36"/>
            <p:cNvCxnSpPr/>
            <p:nvPr/>
          </p:nvCxnSpPr>
          <p:spPr>
            <a:xfrm>
              <a:off x="1229760" y="1322280"/>
              <a:ext cx="2908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2" name="Straight Arrow Connector 37"/>
            <p:cNvCxnSpPr/>
            <p:nvPr/>
          </p:nvCxnSpPr>
          <p:spPr>
            <a:xfrm flipV="1">
              <a:off x="2246400" y="1321920"/>
              <a:ext cx="2908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3" name="Straight Arrow Connector 38"/>
            <p:cNvCxnSpPr/>
            <p:nvPr/>
          </p:nvCxnSpPr>
          <p:spPr>
            <a:xfrm>
              <a:off x="3263040" y="1322280"/>
              <a:ext cx="28692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4" name="Straight Arrow Connector 40"/>
            <p:cNvCxnSpPr/>
            <p:nvPr/>
          </p:nvCxnSpPr>
          <p:spPr>
            <a:xfrm>
              <a:off x="5738760" y="1322280"/>
              <a:ext cx="289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5" name="Straight Arrow Connector 41"/>
            <p:cNvCxnSpPr/>
            <p:nvPr/>
          </p:nvCxnSpPr>
          <p:spPr>
            <a:xfrm>
              <a:off x="6753960" y="1322280"/>
              <a:ext cx="3024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6" name="Straight Arrow Connector 42"/>
            <p:cNvCxnSpPr/>
            <p:nvPr/>
          </p:nvCxnSpPr>
          <p:spPr>
            <a:xfrm flipV="1">
              <a:off x="7782120" y="1321920"/>
              <a:ext cx="2768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7" name="Straight Arrow Connector 43"/>
            <p:cNvCxnSpPr/>
            <p:nvPr/>
          </p:nvCxnSpPr>
          <p:spPr>
            <a:xfrm flipV="1">
              <a:off x="8782920" y="1326600"/>
              <a:ext cx="3636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8" name="Elbow Connector 45"/>
            <p:cNvCxnSpPr>
              <a:endCxn id="1129" idx="2"/>
            </p:cNvCxnSpPr>
            <p:nvPr/>
          </p:nvCxnSpPr>
          <p:spPr>
            <a:xfrm flipV="1">
              <a:off x="4247280" y="1593000"/>
              <a:ext cx="2143800" cy="428400"/>
            </a:xfrm>
            <a:prstGeom prst="bentConnector2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149" name="Elbow Connector 46"/>
            <p:cNvCxnSpPr>
              <a:endCxn id="1122" idx="2"/>
            </p:cNvCxnSpPr>
            <p:nvPr/>
          </p:nvCxnSpPr>
          <p:spPr>
            <a:xfrm rot="10800000">
              <a:off x="2895480" y="1531080"/>
              <a:ext cx="658800" cy="484560"/>
            </a:xfrm>
            <a:prstGeom prst="bentConnector2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150" name="Straight Arrow Connector 47"/>
            <p:cNvCxnSpPr>
              <a:endCxn id="1135" idx="1"/>
            </p:cNvCxnSpPr>
            <p:nvPr/>
          </p:nvCxnSpPr>
          <p:spPr>
            <a:xfrm>
              <a:off x="2246400" y="2132640"/>
              <a:ext cx="1295280" cy="126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51" name="Straight Arrow Connector 48"/>
            <p:cNvCxnSpPr/>
            <p:nvPr/>
          </p:nvCxnSpPr>
          <p:spPr>
            <a:xfrm>
              <a:off x="2246400" y="2416320"/>
              <a:ext cx="311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52" name="Straight Arrow Connector 49"/>
            <p:cNvCxnSpPr>
              <a:stCxn id="1153" idx="3"/>
              <a:endCxn id="1139" idx="1"/>
            </p:cNvCxnSpPr>
            <p:nvPr/>
          </p:nvCxnSpPr>
          <p:spPr>
            <a:xfrm>
              <a:off x="1086120" y="2286720"/>
              <a:ext cx="4348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54" name="TextBox 56"/>
            <p:cNvSpPr/>
            <p:nvPr/>
          </p:nvSpPr>
          <p:spPr>
            <a:xfrm>
              <a:off x="400320" y="118764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 Switc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55" name="Rectangle 57"/>
            <p:cNvSpPr/>
            <p:nvPr/>
          </p:nvSpPr>
          <p:spPr>
            <a:xfrm>
              <a:off x="9140040" y="1204200"/>
              <a:ext cx="50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es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53" name="TextBox 58"/>
            <p:cNvSpPr/>
            <p:nvPr/>
          </p:nvSpPr>
          <p:spPr>
            <a:xfrm>
              <a:off x="168120" y="2087280"/>
              <a:ext cx="91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ntrol Comput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156" name="Straight Arrow Connector 59"/>
            <p:cNvCxnSpPr>
              <a:endCxn id="1157" idx="2"/>
            </p:cNvCxnSpPr>
            <p:nvPr/>
          </p:nvCxnSpPr>
          <p:spPr>
            <a:xfrm flipH="1" flipV="1">
              <a:off x="2900160" y="721800"/>
              <a:ext cx="3960" cy="322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57" name="Rectangle 80"/>
            <p:cNvSpPr/>
            <p:nvPr/>
          </p:nvSpPr>
          <p:spPr>
            <a:xfrm>
              <a:off x="2536920" y="173160"/>
              <a:ext cx="726120" cy="548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58" name="TextBox 82"/>
            <p:cNvSpPr/>
            <p:nvPr/>
          </p:nvSpPr>
          <p:spPr>
            <a:xfrm>
              <a:off x="7478640" y="2416680"/>
              <a:ext cx="1846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159" name="Straight Arrow Connector 89"/>
            <p:cNvCxnSpPr>
              <a:stCxn id="1135" idx="0"/>
              <a:endCxn id="1123" idx="2"/>
            </p:cNvCxnSpPr>
            <p:nvPr/>
          </p:nvCxnSpPr>
          <p:spPr>
            <a:xfrm flipV="1">
              <a:off x="3906360" y="1593000"/>
              <a:ext cx="11520" cy="280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0" name="TextBox 94"/>
            <p:cNvSpPr/>
            <p:nvPr/>
          </p:nvSpPr>
          <p:spPr>
            <a:xfrm>
              <a:off x="2676960" y="347400"/>
              <a:ext cx="44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161" name="Straight Arrow Connector 96"/>
            <p:cNvCxnSpPr/>
            <p:nvPr/>
          </p:nvCxnSpPr>
          <p:spPr>
            <a:xfrm flipV="1">
              <a:off x="4280040" y="1051920"/>
              <a:ext cx="2880" cy="5378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</p:cxnSp>
        <p:cxnSp>
          <p:nvCxnSpPr>
            <p:cNvPr id="1162" name="Straight Arrow Connector 97"/>
            <p:cNvCxnSpPr/>
            <p:nvPr/>
          </p:nvCxnSpPr>
          <p:spPr>
            <a:xfrm flipV="1">
              <a:off x="5004000" y="1051920"/>
              <a:ext cx="2880" cy="5378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</p:cxnSp>
      </p:grpSp>
      <p:sp>
        <p:nvSpPr>
          <p:cNvPr id="1163" name="TextBox 50"/>
          <p:cNvSpPr/>
          <p:nvPr/>
        </p:nvSpPr>
        <p:spPr>
          <a:xfrm>
            <a:off x="244080" y="20016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Front Node 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mplementatio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4" name="TextBox 51"/>
          <p:cNvSpPr/>
          <p:nvPr/>
        </p:nvSpPr>
        <p:spPr>
          <a:xfrm>
            <a:off x="7885440" y="22536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erarch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5" name="TextBox 52"/>
          <p:cNvSpPr/>
          <p:nvPr/>
        </p:nvSpPr>
        <p:spPr>
          <a:xfrm>
            <a:off x="8805240" y="6269040"/>
            <a:ext cx="79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hysical 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6" name="TextBox 53"/>
          <p:cNvSpPr/>
          <p:nvPr/>
        </p:nvSpPr>
        <p:spPr>
          <a:xfrm>
            <a:off x="2520" y="645336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Floor Pla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167" name="Group 54"/>
          <p:cNvGrpSpPr/>
          <p:nvPr/>
        </p:nvGrpSpPr>
        <p:grpSpPr>
          <a:xfrm>
            <a:off x="973080" y="3038400"/>
            <a:ext cx="3117960" cy="3743280"/>
            <a:chOff x="973080" y="3038400"/>
            <a:chExt cx="3117960" cy="3743280"/>
          </a:xfrm>
        </p:grpSpPr>
        <p:sp>
          <p:nvSpPr>
            <p:cNvPr id="1168" name="Rectangle 55"/>
            <p:cNvSpPr/>
            <p:nvPr/>
          </p:nvSpPr>
          <p:spPr>
            <a:xfrm>
              <a:off x="974520" y="3038400"/>
              <a:ext cx="3110400" cy="374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69" name="Rectangle 65"/>
            <p:cNvSpPr/>
            <p:nvPr/>
          </p:nvSpPr>
          <p:spPr>
            <a:xfrm>
              <a:off x="1311840" y="3038400"/>
              <a:ext cx="2770920" cy="1398600"/>
            </a:xfrm>
            <a:prstGeom prst="rect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0" name="Rectangle 60"/>
            <p:cNvSpPr/>
            <p:nvPr/>
          </p:nvSpPr>
          <p:spPr>
            <a:xfrm>
              <a:off x="1793520" y="3038400"/>
              <a:ext cx="1168200" cy="6631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1" name="Rectangle 63"/>
            <p:cNvSpPr/>
            <p:nvPr/>
          </p:nvSpPr>
          <p:spPr>
            <a:xfrm>
              <a:off x="1231200" y="4174920"/>
              <a:ext cx="523080" cy="89388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2" name="Rectangle 66"/>
            <p:cNvSpPr/>
            <p:nvPr/>
          </p:nvSpPr>
          <p:spPr>
            <a:xfrm>
              <a:off x="3378600" y="6125400"/>
              <a:ext cx="619920" cy="6166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3" name="Rectangle 67"/>
            <p:cNvSpPr/>
            <p:nvPr/>
          </p:nvSpPr>
          <p:spPr>
            <a:xfrm>
              <a:off x="3515760" y="3238560"/>
              <a:ext cx="532800" cy="1061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4" name="Rectangle 68"/>
            <p:cNvSpPr/>
            <p:nvPr/>
          </p:nvSpPr>
          <p:spPr>
            <a:xfrm>
              <a:off x="974520" y="5444640"/>
              <a:ext cx="1013760" cy="133704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5" name="TextBox 69"/>
            <p:cNvSpPr/>
            <p:nvPr/>
          </p:nvSpPr>
          <p:spPr>
            <a:xfrm>
              <a:off x="3460680" y="370080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0Gb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-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6" name="TextBox 70"/>
            <p:cNvSpPr/>
            <p:nvPr/>
          </p:nvSpPr>
          <p:spPr>
            <a:xfrm>
              <a:off x="1200240" y="5893920"/>
              <a:ext cx="48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lay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odel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7" name="TextBox 71"/>
            <p:cNvSpPr/>
            <p:nvPr/>
          </p:nvSpPr>
          <p:spPr>
            <a:xfrm>
              <a:off x="3456720" y="6324480"/>
              <a:ext cx="44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OPC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8" name="TextBox 72"/>
            <p:cNvSpPr/>
            <p:nvPr/>
          </p:nvSpPr>
          <p:spPr>
            <a:xfrm>
              <a:off x="2419200" y="5221800"/>
              <a:ext cx="69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ilter Bank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9" name="TextBox 73"/>
            <p:cNvSpPr/>
            <p:nvPr/>
          </p:nvSpPr>
          <p:spPr>
            <a:xfrm>
              <a:off x="2349000" y="3925440"/>
              <a:ext cx="86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acket receive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0" name="TextBox 75"/>
            <p:cNvSpPr/>
            <p:nvPr/>
          </p:nvSpPr>
          <p:spPr>
            <a:xfrm rot="16200000">
              <a:off x="1150560" y="4606920"/>
              <a:ext cx="556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ram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1" name="TextBox 77"/>
            <p:cNvSpPr/>
            <p:nvPr/>
          </p:nvSpPr>
          <p:spPr>
            <a:xfrm>
              <a:off x="2107440" y="3240000"/>
              <a:ext cx="39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2" name="Rectangle 78"/>
            <p:cNvSpPr/>
            <p:nvPr/>
          </p:nvSpPr>
          <p:spPr>
            <a:xfrm>
              <a:off x="973080" y="4174920"/>
              <a:ext cx="257760" cy="893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3" name="TextBox 79"/>
            <p:cNvSpPr/>
            <p:nvPr/>
          </p:nvSpPr>
          <p:spPr>
            <a:xfrm rot="16200000">
              <a:off x="929880" y="4547880"/>
              <a:ext cx="33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4" name="Rectangle 81"/>
            <p:cNvSpPr/>
            <p:nvPr/>
          </p:nvSpPr>
          <p:spPr>
            <a:xfrm>
              <a:off x="3646080" y="5124600"/>
              <a:ext cx="436680" cy="10036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5" name="TextBox 83"/>
            <p:cNvSpPr/>
            <p:nvPr/>
          </p:nvSpPr>
          <p:spPr>
            <a:xfrm rot="16200000">
              <a:off x="3528360" y="5470920"/>
              <a:ext cx="70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Gb-Eth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pic>
        <p:nvPicPr>
          <p:cNvPr id="1186" name="Picture 92" descr="fn_top_chipplanner.jpeg"/>
          <p:cNvPicPr/>
          <p:nvPr/>
        </p:nvPicPr>
        <p:blipFill>
          <a:blip r:embed="rId1"/>
          <a:stretch/>
        </p:blipFill>
        <p:spPr>
          <a:xfrm>
            <a:off x="5611680" y="2962440"/>
            <a:ext cx="3191040" cy="3819240"/>
          </a:xfrm>
          <a:prstGeom prst="rect">
            <a:avLst/>
          </a:prstGeom>
          <a:ln w="0">
            <a:noFill/>
          </a:ln>
        </p:spPr>
      </p:pic>
      <p:sp>
        <p:nvSpPr>
          <p:cNvPr id="1187" name="Rectangle 100"/>
          <p:cNvSpPr/>
          <p:nvPr/>
        </p:nvSpPr>
        <p:spPr>
          <a:xfrm>
            <a:off x="1004760" y="5068800"/>
            <a:ext cx="749520" cy="368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8" name="TextBox 101"/>
          <p:cNvSpPr/>
          <p:nvPr/>
        </p:nvSpPr>
        <p:spPr>
          <a:xfrm>
            <a:off x="1068120" y="514368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Normalize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9" name="Rectangle 102"/>
          <p:cNvSpPr/>
          <p:nvPr/>
        </p:nvSpPr>
        <p:spPr>
          <a:xfrm>
            <a:off x="3862440" y="4276800"/>
            <a:ext cx="196920" cy="447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8:51:29Z</dcterms:created>
  <dc:creator>Arpad Szomoru</dc:creator>
  <dc:description/>
  <dc:language>en-US</dc:language>
  <cp:lastModifiedBy>Jonathan Hargreaves</cp:lastModifiedBy>
  <cp:lastPrinted>2001-03-09T11:05:18Z</cp:lastPrinted>
  <dcterms:modified xsi:type="dcterms:W3CDTF">2014-09-03T14:50:48Z</dcterms:modified>
  <cp:revision>195</cp:revision>
  <dc:subject/>
  <dc:title>Data rate improvements</dc:title>
</cp:coreProperties>
</file>